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30C60-F247-43FA-A9DB-5FE8682DC5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8C00C-59BB-4276-834E-DABF94C078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A851E-557D-4D6A-A163-FCC443C9A6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47617-39C4-44E1-B92F-D0D88AFAE6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40F8F-C348-458B-A0B7-A274E0BBA2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C352B-3D96-42A8-BD91-A1C2498BFB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C34C0-C8B6-48D0-98FF-E519D2133E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F190-D2C5-4550-BE01-35A8ABB0F3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73BB-116E-46C5-BCE5-2E031AF255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56F9-C38C-4017-B9E0-246EF2A873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BB206-4C64-4E3F-8FFA-FD8CB6D664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94B2-2288-456F-B002-3AD79B6AC5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964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692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5640" indent="-4316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5640" indent="-43164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5640" indent="-43164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964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692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5640" indent="-4316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5640" indent="-43164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5640" indent="-43164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1"/>
          </p:nvPr>
        </p:nvSpPr>
        <p:spPr>
          <a:xfrm>
            <a:off x="3465000" y="7920000"/>
            <a:ext cx="319428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2"/>
          </p:nvPr>
        </p:nvSpPr>
        <p:spPr>
          <a:xfrm>
            <a:off x="7199280" y="7939080"/>
            <a:ext cx="2349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HG Mincho Light J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C9ED-8358-4BF5-9998-05ABE64F8C23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Obraz 5" descr=""/>
          <p:cNvPicPr/>
          <p:nvPr/>
        </p:nvPicPr>
        <p:blipFill>
          <a:blip r:embed="rId2"/>
          <a:stretch/>
        </p:blipFill>
        <p:spPr>
          <a:xfrm>
            <a:off x="4680" y="14400"/>
            <a:ext cx="10076040" cy="754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738000"/>
            <a:ext cx="80787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600" spc="-1" strike="noStrike">
                <a:solidFill>
                  <a:srgbClr val="333333"/>
                </a:solidFill>
                <a:latin typeface="Arial"/>
              </a:rPr>
              <a:t>Idea partnerstwa</a:t>
            </a:r>
            <a:endParaRPr b="1" i="1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38120" y="2317320"/>
            <a:ext cx="91915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Idea partnerstwa gospodarczego jest głęboko zakorzeniona głęboko w prawie Unii</a:t>
            </a:r>
            <a:br>
              <a:rPr sz="1800"/>
            </a:b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Europejskiej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, a przede wszystkim w historii i tradycji Starego Kontynentu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Partnerstwo angażuje władze samorządowe, lokalne organizacje pozarządowe, instytucje</a:t>
            </a:r>
            <a:br>
              <a:rPr sz="1800"/>
            </a:b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publiczne, szkoły, przedsiębiorców, mieszkańców. Pozwala ono na budowanie zespołów</a:t>
            </a:r>
            <a:br>
              <a:rPr sz="1800"/>
            </a:b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lokalnego rozwoju, które przez wspólne podejmowanie inicjatyw, pozwalają lokalnym</a:t>
            </a:r>
            <a:br>
              <a:rPr sz="1800"/>
            </a:b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społecznościom na rozwiązywanie ich problemów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Dialog społeczny jest siłą napędową, która umożliwi dokonanie głębokich reform</a:t>
            </a:r>
            <a:br>
              <a:rPr sz="1800"/>
            </a:b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ekonomicznych i społecznych, jakie są niezbędne do zachowania dotychczasowej pozycji</a:t>
            </a:r>
            <a:br>
              <a:rPr sz="1800"/>
            </a:b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gospodarki Wspólnoty – Strategia Lizbońsk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0880" y="738000"/>
            <a:ext cx="80787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600" spc="-1" strike="noStrike">
                <a:solidFill>
                  <a:srgbClr val="333333"/>
                </a:solidFill>
                <a:latin typeface="Arial"/>
              </a:rPr>
              <a:t>Definicja partnerstwa</a:t>
            </a:r>
            <a:endParaRPr b="1" i="1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12720" y="2160360"/>
            <a:ext cx="884088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„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Współuczestniczenie w czymś, bycie partnerem. Partnerstwo aktorskie,</a:t>
            </a:r>
            <a:br>
              <a:rPr sz="1800"/>
            </a:b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gospodarcze, przemysłowe, polityczne. Współpraca na zasadzie partnerstwa.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333333"/>
                </a:solidFill>
                <a:latin typeface="Arial"/>
              </a:rPr>
              <a:t>Wg słownika języka polskiego PW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„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Współczesny model relacji między partnerami obejmujący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współdziałanie i współpracę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Równość praw i obowiązków, szanowanie autonomii i inności, tolerancję.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333333"/>
                </a:solidFill>
                <a:latin typeface="Arial"/>
              </a:rPr>
              <a:t>Wg „ Lwa Starowicza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Przez partnerstwo możemy również rozumieć wspólne działanie na rzecz rozwoju</a:t>
            </a:r>
            <a:br>
              <a:rPr sz="1800"/>
            </a:b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społeczności lokalnej lub wspólną realizację konkretnego działania czy tez projektu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738000"/>
            <a:ext cx="80787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600" spc="-1" strike="noStrike">
                <a:solidFill>
                  <a:srgbClr val="333333"/>
                </a:solidFill>
                <a:latin typeface="Arial"/>
              </a:rPr>
              <a:t>Wyznaczniki partnerstwa</a:t>
            </a:r>
            <a:endParaRPr b="1" i="1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4040" y="192204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c4c4c"/>
                </a:solidFill>
                <a:latin typeface="Arial"/>
              </a:rPr>
              <a:t>Wyznaczniki partnerstw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związek osób lub podmiotów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wspólna wizja i cele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zdefiniowany cel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określone zadania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zaangażowanie poprzedzone wspólnym przygotowaniem planu działania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opracowanie procedur zorientowanych na rezultaty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738000"/>
            <a:ext cx="80787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600" spc="-1" strike="noStrike">
                <a:solidFill>
                  <a:srgbClr val="333333"/>
                </a:solidFill>
                <a:latin typeface="Arial"/>
              </a:rPr>
              <a:t>Wady i bariery partnerstwa</a:t>
            </a:r>
            <a:endParaRPr b="1" i="1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4040" y="325440"/>
            <a:ext cx="8418240" cy="79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c4c4c"/>
                </a:solidFill>
                <a:latin typeface="Arial"/>
              </a:rPr>
              <a:t>Wady i bariery partnerstw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czasochłonność powstawania partnerstwa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wymaga w miarę silnego lidera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poważne ryzyko powstania zamkniętej grupy partnerów, która nie dopuszcz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innych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bariery osobowościowe członków partnerstw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bariery ekonomiczne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sprzeczność interesów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bierność i brak aktywności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brak strategii działania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nieumiejętna współpraca z mediami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upolitycznienie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słabość lub brak umocowania partnerstwa.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738000"/>
            <a:ext cx="80787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600" spc="-1" strike="noStrike">
                <a:solidFill>
                  <a:srgbClr val="333333"/>
                </a:solidFill>
                <a:latin typeface="Arial"/>
              </a:rPr>
              <a:t>Partnerstwo lokalne</a:t>
            </a:r>
            <a:endParaRPr b="1" i="1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1360" y="-4628520"/>
            <a:ext cx="8464680" cy="178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Definicja partnerstwa lokalnego opiera się na czterech przesłankach wyróżniających</a:t>
            </a:r>
            <a:br>
              <a:rPr sz="1800"/>
            </a:b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lokalne partnerstwo od innych form współpracy. Partnerstwo musi zatem mieć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formalnie zorganizowaną strukturę działania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potencjał aktywizacji grup interesu i angażowania partnerów</a:t>
            </a:r>
            <a:br>
              <a:rPr sz="1800"/>
            </a:b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z szerokiego spektrum społecznego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wspólną agendę i wielowymiarowy program działania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zadanie zwalczania bezrobocia, biedy i wykluczenia oraz promocję spójności</a:t>
            </a:r>
            <a:br>
              <a:rPr sz="1800"/>
            </a:b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społecznej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333333"/>
                </a:solidFill>
                <a:latin typeface="Arial"/>
              </a:rPr>
              <a:t>Wg dra Michaela Geddes'a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333333"/>
                </a:solidFill>
                <a:latin typeface="Arial"/>
              </a:rPr>
              <a:t>W raporcie dla Europejskiej Fundacji na rzecz Poprawy Warunków Życia i Pracy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333333"/>
                </a:solidFill>
                <a:latin typeface="Arial"/>
              </a:rPr>
              <a:t>„</a:t>
            </a:r>
            <a:r>
              <a:rPr b="0" i="1" lang="pl-PL" sz="1200" spc="-1" strike="noStrike">
                <a:solidFill>
                  <a:srgbClr val="333333"/>
                </a:solidFill>
                <a:latin typeface="Arial"/>
              </a:rPr>
              <a:t>Partnerstwo Lokalne: Skuteczna Strategia na rzecz Spójności Społecznej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738000"/>
            <a:ext cx="80787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600" spc="-1" strike="noStrike">
                <a:solidFill>
                  <a:srgbClr val="333333"/>
                </a:solidFill>
                <a:latin typeface="Arial"/>
              </a:rPr>
              <a:t>Partnerstwo międzysektorowe</a:t>
            </a:r>
            <a:endParaRPr b="1" i="1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23680" y="1922040"/>
            <a:ext cx="8420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„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Partnerstwo międzysektorowe to dobrowolne strategicznie przymierze</a:t>
            </a:r>
            <a:br>
              <a:rPr sz="1800"/>
            </a:b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organizacji reprezentujących różne sektory życia społecznego – publiczny,</a:t>
            </a:r>
            <a:br>
              <a:rPr sz="1800"/>
            </a:b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gospodarczy i pozarządowy – zawarte w celu współpracy przy realizacji projektu</a:t>
            </a:r>
            <a:br>
              <a:rPr sz="1800"/>
            </a:b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lub programu zgodnego z celami rozwoju zrównoważonego, do którego wszyscy</a:t>
            </a:r>
            <a:br>
              <a:rPr sz="1800"/>
            </a:b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partnerzy wnoszą swoje kompetencje i zasoby, w którym wspólnie ponoszą ryzyko</a:t>
            </a:r>
            <a:br>
              <a:rPr sz="1800"/>
            </a:b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oraz dzielą się korzyściami wynikającymi z osiągnięcia wspólnych celów</a:t>
            </a:r>
            <a:br>
              <a:rPr sz="1800"/>
            </a:b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partnerstwa i celów poszczególnych organizacji członkowskich.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333333"/>
                </a:solidFill>
                <a:latin typeface="Arial"/>
              </a:rPr>
              <a:t>Wg IBLF/OD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738000"/>
            <a:ext cx="80787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600" spc="-1" strike="noStrike">
                <a:solidFill>
                  <a:srgbClr val="333333"/>
                </a:solidFill>
                <a:latin typeface="Arial"/>
              </a:rPr>
              <a:t>Etapy tworzenia partnerstwa</a:t>
            </a:r>
            <a:endParaRPr b="1" i="1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3680" y="-6500160"/>
            <a:ext cx="8420040" cy="21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ETAP 1. Inicjowanie partnerstw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znalezienie partnerów i inicjatyw lokalnych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określenie wspólnych celów działania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określenie wizji wspólnego działania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ETAP 2. Organizowanie partnerstw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odpisanie porozumienia o partnerstwie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zyjęcie regulaminu partnerstwa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lanowanie wspólnych działań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ETAP 3. Organizowanie partnerstw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monitorowanie funkcjonowania partnerstwa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finansowanie partnerstwa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budowanie potencjału partnerstwa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monitorowanie i ewaluacja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współpraca z innymi partnerstwami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333333"/>
                </a:solidFill>
                <a:latin typeface="Arial"/>
              </a:rPr>
              <a:t>Wg www.grupapartnerska.p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738000"/>
            <a:ext cx="80787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600" spc="-1" strike="noStrike">
                <a:solidFill>
                  <a:srgbClr val="333333"/>
                </a:solidFill>
                <a:latin typeface="Arial"/>
              </a:rPr>
              <a:t>Korzyści płynące z partnerstwa</a:t>
            </a:r>
            <a:endParaRPr b="1" i="1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3680" y="1816200"/>
            <a:ext cx="8420040" cy="521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c4c4c"/>
                </a:solidFill>
                <a:latin typeface="Arial"/>
              </a:rPr>
              <a:t>rekonstrukcja zaufania i budowa sieci społecznych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tworzenie realnych podstaw do budowania gospodarki opartej na wiedzy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wytwórczość, dystrybucja, usługi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wspieranie wzmacniania konkurencyjności obszaru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wzmacnianie postaw przedsiębiorczych i przedsiębiorczości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dostosowanie programów nauczania do wymagań rynku pracy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odbudowa aktywności obywatelskiej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dobre forum generowania i realizacji odważnych pomysłów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buSzPct val="4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trafniejsze definiowanie potrzeb.</a:t>
            </a:r>
            <a:br>
              <a:rPr sz="1800"/>
            </a:b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2:34:55Z</dcterms:created>
  <dc:creator>Agnieszka</dc:creator>
  <dc:description>Ogólna prezentacja nowego produktu z uwzględnieniem życzeń klienta</dc:description>
  <dc:language>en-US</dc:language>
  <cp:lastModifiedBy>MT</cp:lastModifiedBy>
  <dcterms:modified xsi:type="dcterms:W3CDTF">2015-07-09T06:20:56Z</dcterms:modified>
  <cp:revision>10</cp:revision>
  <dc:subject/>
  <dc:title>Prezentacja nowego produkt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0">
    <vt:lpwstr/>
  </property>
  <property fmtid="{D5CDD505-2E9C-101B-9397-08002B2CF9AE}" pid="3" name="Info 1">
    <vt:lpwstr/>
  </property>
  <property fmtid="{D5CDD505-2E9C-101B-9397-08002B2CF9AE}" pid="4" name="Info 2">
    <vt:lpwstr/>
  </property>
  <property fmtid="{D5CDD505-2E9C-101B-9397-08002B2CF9AE}" pid="5" name="Info 3">
    <vt:lpwstr/>
  </property>
</Properties>
</file>